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994D-ADBC-445F-B0EB-684BA79487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E30A-432A-4478-A796-C77F5EFBFD29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51A-5759-4EBD-BA2A-F6E2B4AD7DD2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DD0E-0234-44CE-934D-2699291E5089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065-BCF4-477E-B3D3-F3497DCAB12D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101F-7325-4A0E-B1DC-73926751018F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77E-71C5-4986-9224-DFF97514C414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433-EB37-43E6-914C-3F58E9E0B4DF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350-39C3-47D0-9CA1-C21DC869348A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573B-37C1-48A5-B8F5-B2C142F05D30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4C7-8C1D-4013-8573-C4CED86FBA0F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46FB-C76E-4964-998F-2535EFC66847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C72-B476-42F3-9AC7-A269E630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15B-4973-450A-B4F5-F6839D9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868-C70A-49EE-BBA4-F0E4A29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B7A-6592-47BC-B10E-B7D7E6E6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8643-CBF8-45B1-83C9-31370C7B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958F-0A8E-43F4-9999-B399E9BE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1D45-BF9E-4A3D-B692-6FFF0C9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6974-A1B5-4086-BA3A-9F5DE80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826-26F5-499E-9B14-4ECCA79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DBA-B0E0-4AD5-8668-C51B76E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D08D-A5AE-446B-B4FF-A7BDC37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913-5ACE-4F58-A2FD-58A0A64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F4C-6571-4115-A2D0-89224AF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41E-2F08-43F0-8FE8-79F5BCC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034-8D2E-4FC7-B910-00E77E4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BF1C-BE11-4DD3-AC63-BDC6B035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052-DB08-4CDD-97B7-DB2D16A5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CC-C954-4A1D-9823-50C7643C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B82-E15D-468F-AC4F-22D9AEEC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545-9F45-4521-BA59-2B6F5D49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08E-C481-4657-B928-33B675F6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9F2-ADBA-4F23-A40B-1BF6B13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B16-6634-48F2-9D5E-7DFDBEB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9B3-210F-4FB7-8BFF-E0B6971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F5E-ADBF-4AB6-B1C1-D8A6CBE7A0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62E-CBA2-4D5E-949E-AE7626C718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380880" y="17524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tional Expression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676520" y="3352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ultiplying and Dividing</a:t>
            </a:r>
            <a:endParaRPr b="0" lang="en-US" sz="36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3048120" y="2438280"/>
                <a:ext cx="319716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+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Box 5"/>
          <p:cNvSpPr/>
          <p:nvPr/>
        </p:nvSpPr>
        <p:spPr>
          <a:xfrm>
            <a:off x="1447920" y="7621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ahoma"/>
              </a:rPr>
              <a:t>Example 1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600200" y="6858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819520" y="2743200"/>
                <a:ext cx="3465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5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n+9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914400" y="3808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9"/>
              <p:cNvSpPr txBox="1"/>
              <p:nvPr/>
            </p:nvSpPr>
            <p:spPr>
              <a:xfrm>
                <a:off x="2590920" y="2438280"/>
                <a:ext cx="4302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4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Content Placeholder 5"/>
              <p:cNvSpPr txBox="1"/>
              <p:nvPr/>
            </p:nvSpPr>
            <p:spPr>
              <a:xfrm>
                <a:off x="3048120" y="2743200"/>
                <a:ext cx="32004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5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Content Placeholder 5"/>
              <p:cNvSpPr txBox="1"/>
              <p:nvPr/>
            </p:nvSpPr>
            <p:spPr>
              <a:xfrm>
                <a:off x="990720" y="2438280"/>
                <a:ext cx="537048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+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6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Content Placeholder 5"/>
              <p:cNvSpPr txBox="1"/>
              <p:nvPr/>
            </p:nvSpPr>
            <p:spPr>
              <a:xfrm>
                <a:off x="2133720" y="2743200"/>
                <a:ext cx="51768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+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x-1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x-3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7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Content Placeholder 5"/>
              <p:cNvSpPr txBox="1"/>
              <p:nvPr/>
            </p:nvSpPr>
            <p:spPr>
              <a:xfrm>
                <a:off x="1676520" y="2743200"/>
                <a:ext cx="6081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8x+1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x+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8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Content Placeholder 5"/>
              <p:cNvSpPr txBox="1"/>
              <p:nvPr/>
            </p:nvSpPr>
            <p:spPr>
              <a:xfrm>
                <a:off x="1676520" y="2895480"/>
                <a:ext cx="57481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8x+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x-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23781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Multiply by the reciprocal of the divis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90720" y="4309920"/>
          <a:ext cx="365760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309920"/>
                    <a:ext cx="365760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14"/>
          <p:cNvGrpSpPr/>
          <p:nvPr/>
        </p:nvGrpSpPr>
        <p:grpSpPr>
          <a:xfrm>
            <a:off x="4724280" y="3840120"/>
            <a:ext cx="1828800" cy="2410200"/>
            <a:chOff x="4724280" y="3840120"/>
            <a:chExt cx="1828800" cy="2410200"/>
          </a:xfrm>
        </p:grpSpPr>
        <p:graphicFrame>
          <p:nvGraphicFramePr>
            <p:cNvPr id="156" name="Object 4"/>
            <p:cNvGraphicFramePr/>
            <p:nvPr/>
          </p:nvGraphicFramePr>
          <p:xfrm>
            <a:off x="4724280" y="4297320"/>
            <a:ext cx="1828800" cy="131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4297320"/>
                      <a:ext cx="1828800" cy="13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5"/>
            <p:cNvSpPr/>
            <p:nvPr/>
          </p:nvSpPr>
          <p:spPr>
            <a:xfrm flipH="1">
              <a:off x="5257080" y="4373280"/>
              <a:ext cx="381240" cy="45720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 flipH="1">
              <a:off x="5866920" y="5135400"/>
              <a:ext cx="609480" cy="45720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5943240" y="4373280"/>
              <a:ext cx="457200" cy="30492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H="1">
              <a:off x="5333400" y="5135400"/>
              <a:ext cx="304920" cy="38088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5181480" y="3840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5257440" y="5668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601956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5943240" y="56689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</p:grpSp>
      <p:graphicFrame>
        <p:nvGraphicFramePr>
          <p:cNvPr id="166" name="Object 15"/>
          <p:cNvGraphicFramePr/>
          <p:nvPr/>
        </p:nvGraphicFramePr>
        <p:xfrm>
          <a:off x="6705720" y="4267080"/>
          <a:ext cx="10285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4267080"/>
                    <a:ext cx="10285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6"/>
          <p:cNvSpPr/>
          <p:nvPr/>
        </p:nvSpPr>
        <p:spPr>
          <a:xfrm>
            <a:off x="45720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how to divide fractions?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736560" y="1371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Dividing rational expressions uses the same procedure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19320" y="30733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: Divide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447920" y="3962520"/>
          <a:ext cx="63244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63244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676520" y="62244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Multiplying and Dividing Rational Expressions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73200" y="2362320"/>
            <a:ext cx="8305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that a rational number can be expressed as a quotient of two integers. A rational expression can be expressed as a quotient of two polynomials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95280" y="1066680"/>
          <a:ext cx="51087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5108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1219320" y="2859120"/>
          <a:ext cx="519084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59120"/>
                    <a:ext cx="51908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1371600" y="4724280"/>
          <a:ext cx="541008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724280"/>
                    <a:ext cx="5410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Line 6"/>
          <p:cNvSpPr/>
          <p:nvPr/>
        </p:nvSpPr>
        <p:spPr>
          <a:xfrm flipH="1">
            <a:off x="2209320" y="4778280"/>
            <a:ext cx="946440" cy="325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4" name="Line 7"/>
          <p:cNvSpPr/>
          <p:nvPr/>
        </p:nvSpPr>
        <p:spPr>
          <a:xfrm flipH="1">
            <a:off x="5344920" y="4778280"/>
            <a:ext cx="1006200" cy="379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4871520" y="5321160"/>
            <a:ext cx="1124280" cy="325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2860200" y="5321160"/>
            <a:ext cx="946440" cy="271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563920" y="4397400"/>
            <a:ext cx="4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700600" y="434340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3098880" y="570240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5227560" y="5754600"/>
            <a:ext cx="4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91" name="Object 16"/>
          <p:cNvGraphicFramePr/>
          <p:nvPr/>
        </p:nvGraphicFramePr>
        <p:xfrm>
          <a:off x="6770520" y="4540320"/>
          <a:ext cx="1895760" cy="12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4540320"/>
                    <a:ext cx="189576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219320" y="144792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Now you try to divide the expression: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066680" y="3276720"/>
          <a:ext cx="66294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6629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1676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c1102"/>
                </a:solidFill>
                <a:latin typeface="Tahoma"/>
              </a:rPr>
              <a:t>Try These!</a:t>
            </a:r>
            <a:endParaRPr b="0" lang="en-US" sz="4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3200400" y="2438280"/>
                <a:ext cx="2476440" cy="315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3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143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523880" y="2438280"/>
          <a:ext cx="586764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8676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8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447920" y="1219320"/>
                <a:ext cx="5943600" cy="42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17520" y="1371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how to multiply fractions: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6827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First you multiply the numerators then multiply the denominators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836640" y="4176720"/>
                <a:ext cx="715500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8954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1102"/>
                </a:solidFill>
                <a:latin typeface="Tahoma"/>
              </a:rPr>
              <a:t>Let’s Try One!</a:t>
            </a:r>
            <a:endParaRPr b="0" lang="en-US" sz="40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533520" y="2438280"/>
          <a:ext cx="72961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72961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838080" y="21337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1: Factor the numerator and the denominat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1371600" y="2819520"/>
          <a:ext cx="632448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632448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28600" y="23623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2: Divide the numerator and denominator by the common factors. 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212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3: Multiply the numerator and the denominat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3886200" y="2666880"/>
          <a:ext cx="1473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666880"/>
                    <a:ext cx="1473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8:30:45Z</dcterms:created>
  <dc:creator>HCPS</dc:creator>
  <dc:description/>
  <dc:language>en-US</dc:language>
  <cp:lastModifiedBy>test</cp:lastModifiedBy>
  <dcterms:modified xsi:type="dcterms:W3CDTF">2015-05-08T12:00:40Z</dcterms:modified>
  <cp:revision>81</cp:revision>
  <dc:subject/>
  <dc:title>No Slide Title</dc:title>
</cp:coreProperties>
</file>